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CEE3-00FE-4ED7-B4EC-10FDC0CEB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E5AC-4725-42B7-9795-765029FA8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F3F3-8A90-4F7F-8004-FC0985146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0031-09B4-4182-A2F1-836AFC7C3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B7EB-2702-429C-B8A2-A1128BBD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87057-9C80-4F4F-B8E4-2F2DAC52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14B7D-3836-4C8D-8C6C-DD5925044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5746D-E29F-43A5-9AEE-165AE992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F227-EA4D-469C-8857-53609151E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E29D-951B-435F-A719-6FCBA2434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0565-D56A-4D66-8480-4E57A235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E3FE5-94ED-4DBD-A49C-E1A80BAA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9CFC-1C65-4D2C-8C6A-47C8A9AE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B8B4-8ECA-439C-81E8-095608F1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8520-8C5D-4A62-BF7C-DAC83110D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81F3-4567-4BBA-80C8-F30BE2FF5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49EB-2F5E-40B1-9AB7-46ED4ACC8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
        <p:nvSpPr>
          <p:cNvPr id="54"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7E55-6D4E-4961-88CA-AD83A803F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4"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do anything malicious other than replicate, and whether that’s malicious or not is in the eye of the beholder</a:t>
            </a:r>
            <a:endParaRPr b="0" lang="en-US" sz="2800" spc="-1" strike="noStrike">
              <a:solidFill>
                <a:srgbClr val="000000"/>
              </a:solidFill>
              <a:latin typeface="Arial"/>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94E5-EFC1-42B8-ADB5-B8F28AB9A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re doing this on your own, make sure you don'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19F7-61FF-4FFC-8F3D-B05CED5E6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30"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s all so obvious!</a:t>
            </a:r>
            <a:endParaRPr b="0" lang="en-US" sz="2800" spc="-1" strike="noStrike">
              <a:solidFill>
                <a:srgbClr val="000000"/>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22D3-0B64-478D-99E0-26B473014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8E1C-BC23-490C-9420-00AE2842C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ja-JP"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6E4F-F277-4C6C-A8CC-0BD3D3E4C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56BC-8E57-431B-9EEA-5B13698D5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2"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5"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6"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8"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F466-390E-45B4-B6D0-7AD5DB40B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1"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3"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5"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6"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7"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8"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4A56-B13C-4BEC-9DC8-45D0B047D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1"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4"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B0DC-D4FA-4F6C-9DBC-CC0FFFC3B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6"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D133-BEFB-4D1A-873B-38C7578DF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A780-02CE-4A3C-B6CF-741F5108A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2AF4-4D2B-42BA-85BD-A34EF2B87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2" name="Picture 5" descr="ReleaseHello_OptionalBefore.png"/>
          <p:cNvPicPr/>
          <p:nvPr/>
        </p:nvPicPr>
        <p:blipFill>
          <a:blip r:embed="rId1"/>
          <a:stretch/>
        </p:blipFill>
        <p:spPr>
          <a:xfrm>
            <a:off x="0" y="1531800"/>
            <a:ext cx="3498840" cy="5326200"/>
          </a:xfrm>
          <a:prstGeom prst="rect">
            <a:avLst/>
          </a:prstGeom>
          <a:ln w="0">
            <a:noFill/>
          </a:ln>
        </p:spPr>
      </p:pic>
      <p:sp>
        <p:nvSpPr>
          <p:cNvPr id="173"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4"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5"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6"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6684-C9E7-4133-A5B5-7D6701F0D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5" descr="ReleaseHello_Hdrs.png"/>
          <p:cNvPicPr/>
          <p:nvPr/>
        </p:nvPicPr>
        <p:blipFill>
          <a:blip r:embed="rId1"/>
          <a:stretch/>
        </p:blipFill>
        <p:spPr>
          <a:xfrm>
            <a:off x="0" y="1225440"/>
            <a:ext cx="3773520" cy="5632560"/>
          </a:xfrm>
          <a:prstGeom prst="rect">
            <a:avLst/>
          </a:prstGeom>
          <a:ln w="0">
            <a:noFill/>
          </a:ln>
        </p:spPr>
      </p:pic>
      <p:pic>
        <p:nvPicPr>
          <p:cNvPr id="188" name="Picture 6" descr="ReleaseHello_text.png"/>
          <p:cNvPicPr/>
          <p:nvPr/>
        </p:nvPicPr>
        <p:blipFill>
          <a:blip r:embed="rId2"/>
          <a:stretch/>
        </p:blipFill>
        <p:spPr>
          <a:xfrm>
            <a:off x="3449520" y="990720"/>
            <a:ext cx="5694480" cy="2971800"/>
          </a:xfrm>
          <a:prstGeom prst="rect">
            <a:avLst/>
          </a:prstGeom>
          <a:ln w="0">
            <a:noFill/>
          </a:ln>
        </p:spPr>
      </p:pic>
      <p:pic>
        <p:nvPicPr>
          <p:cNvPr id="189" name="Picture 7" descr="ReleaseHello_reloc.png"/>
          <p:cNvPicPr/>
          <p:nvPr/>
        </p:nvPicPr>
        <p:blipFill>
          <a:blip r:embed="rId3"/>
          <a:stretch/>
        </p:blipFill>
        <p:spPr>
          <a:xfrm>
            <a:off x="3529080" y="4114800"/>
            <a:ext cx="5646600" cy="2738520"/>
          </a:xfrm>
          <a:prstGeom prst="rect">
            <a:avLst/>
          </a:prstGeom>
          <a:ln w="0">
            <a:noFill/>
          </a:ln>
        </p:spPr>
      </p:pic>
      <p:sp>
        <p:nvSpPr>
          <p:cNvPr id="190"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3"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4"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3" descr="UPXHello_Hdrs.png"/>
          <p:cNvPicPr/>
          <p:nvPr/>
        </p:nvPicPr>
        <p:blipFill>
          <a:blip r:embed="rId1"/>
          <a:stretch/>
        </p:blipFill>
        <p:spPr>
          <a:xfrm>
            <a:off x="0" y="1676520"/>
            <a:ext cx="3841920" cy="5181480"/>
          </a:xfrm>
          <a:prstGeom prst="rect">
            <a:avLst/>
          </a:prstGeom>
          <a:ln w="0">
            <a:noFill/>
          </a:ln>
        </p:spPr>
      </p:pic>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BCBC-81AE-48BA-B682-112C45F6B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16" descr="UPXHello_rsrc.png"/>
          <p:cNvPicPr/>
          <p:nvPr/>
        </p:nvPicPr>
        <p:blipFill>
          <a:blip r:embed="rId2"/>
          <a:stretch/>
        </p:blipFill>
        <p:spPr>
          <a:xfrm>
            <a:off x="3733920" y="4495680"/>
            <a:ext cx="5410080" cy="2210040"/>
          </a:xfrm>
          <a:prstGeom prst="rect">
            <a:avLst/>
          </a:prstGeom>
          <a:ln w="0">
            <a:noFill/>
          </a:ln>
        </p:spPr>
      </p:pic>
      <p:sp>
        <p:nvSpPr>
          <p:cNvPr id="199"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200" name="Picture 15" descr="UPXHello_upx1.png"/>
          <p:cNvPicPr/>
          <p:nvPr/>
        </p:nvPicPr>
        <p:blipFill>
          <a:blip r:embed="rId3"/>
          <a:stretch/>
        </p:blipFill>
        <p:spPr>
          <a:xfrm>
            <a:off x="3733920" y="2133720"/>
            <a:ext cx="5486400" cy="2504880"/>
          </a:xfrm>
          <a:prstGeom prst="rect">
            <a:avLst/>
          </a:prstGeom>
          <a:ln w="0">
            <a:noFill/>
          </a:ln>
        </p:spPr>
      </p:pic>
      <p:pic>
        <p:nvPicPr>
          <p:cNvPr id="201" name="Picture 14" descr="UPXHello_upx0.png"/>
          <p:cNvPicPr/>
          <p:nvPr/>
        </p:nvPicPr>
        <p:blipFill>
          <a:blip r:embed="rId4"/>
          <a:stretch/>
        </p:blipFill>
        <p:spPr>
          <a:xfrm>
            <a:off x="3733920" y="-76320"/>
            <a:ext cx="5410080" cy="2379960"/>
          </a:xfrm>
          <a:prstGeom prst="rect">
            <a:avLst/>
          </a:prstGeom>
          <a:ln w="0">
            <a:noFill/>
          </a:ln>
        </p:spPr>
      </p:pic>
      <p:sp>
        <p:nvSpPr>
          <p:cNvPr id="202"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7"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8"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1"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3"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4"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DAC2-9FC1-4DD7-9B61-686775B9E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5"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t obfuscate the addresses you could skip straight to step 4 ;)</a:t>
            </a:r>
            <a:endParaRPr b="0" lang="en-US" sz="1600" spc="-1" strike="noStrike">
              <a:solidFill>
                <a:srgbClr val="000000"/>
              </a:solidFill>
              <a:latin typeface="Arial"/>
            </a:endParaRPr>
          </a:p>
        </p:txBody>
      </p:sp>
      <p:sp>
        <p:nvSpPr>
          <p:cNvPr id="21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6698-8E0E-4FCB-A820-5C1E77408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0D60-4D58-44B9-B433-72D5C07EF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F49A-17D1-401A-80A8-2980D2B59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 name="Picture 4" descr="OffensiveComputingPackerSummary2007.png"/>
          <p:cNvPicPr/>
          <p:nvPr/>
        </p:nvPicPr>
        <p:blipFill>
          <a:blip r:embed="rId1"/>
          <a:stretch/>
        </p:blipFill>
        <p:spPr>
          <a:xfrm>
            <a:off x="0" y="17640"/>
            <a:ext cx="9144000" cy="6822720"/>
          </a:xfrm>
          <a:prstGeom prst="rect">
            <a:avLst/>
          </a:prstGeom>
          <a:ln w="0">
            <a:noFill/>
          </a:ln>
        </p:spPr>
      </p:pic>
      <p:sp>
        <p:nvSpPr>
          <p:cNvPr id="224"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5"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7"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452C-5950-41BC-9C4F-0359F7C87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EEAC-F66A-4F20-928A-D655B2161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rimarily interested in viruses which infect PE files, but they can infect other file types as well.</a:t>
            </a:r>
            <a:endParaRPr b="0" lang="en-US" sz="32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8F24-605B-40BA-AB5A-7DF1BB0C4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3"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F67A-E92E-4EF2-9B1E-23C48B795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BA1D-75BA-4EF6-A1BF-62C31C6AE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s life! Don't make me give you to the back of my hand!")</a:t>
            </a:r>
            <a:endParaRPr b="0" lang="en-US" sz="1400" spc="-1" strike="noStrike">
              <a:solidFill>
                <a:srgbClr val="000000"/>
              </a:solidFill>
              <a:latin typeface="Arial"/>
            </a:endParaRPr>
          </a:p>
        </p:txBody>
      </p:sp>
      <p:sp>
        <p:nvSpPr>
          <p:cNvPr id="23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6B8A-D40F-40C6-914C-D8CB309EB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047C-5DD8-4A07-88F6-69D66FD98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2" name="Picture 4" descr="InlineHookHotpatch.png"/>
          <p:cNvPicPr/>
          <p:nvPr/>
        </p:nvPicPr>
        <p:blipFill>
          <a:blip r:embed="rId1"/>
          <a:stretch/>
        </p:blipFill>
        <p:spPr>
          <a:xfrm>
            <a:off x="228600" y="0"/>
            <a:ext cx="8686800" cy="6278400"/>
          </a:xfrm>
          <a:prstGeom prst="rect">
            <a:avLst/>
          </a:prstGeom>
          <a:ln w="0">
            <a:noFill/>
          </a:ln>
        </p:spPr>
      </p:pic>
      <p:sp>
        <p:nvSpPr>
          <p:cNvPr id="243"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4"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5"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1DCE-BABF-4870-80B8-891444B4F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s the 0xbeef?</a:t>
            </a:r>
            <a:endParaRPr b="0" lang="en-US" sz="32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9D55-83E5-4D78-96B2-C4F43E07B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BA8F-5847-4B5D-9197-A8E4B4059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FA6A-E278-43EC-8C4B-1A9BA4611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ilation</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sis - turning characters into lexemes, which can be grouped into toke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Analysis - Context Free Grammars in Backus-Naur form (BNF), and Parse Trees (aka Concrete Syntax T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yntax Trees (ASTs), Abstract Assembly Trees(AATs), tiling on AATs to generate assembly</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nkin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cing output object files together into a final binary which may be standalone or may depend on the loader to find external libraries for it</a:t>
            </a:r>
            <a:endParaRPr b="0" lang="en-US" sz="24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81A3-9EF5-41AD-95E1-B5E02C394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C04D-20C1-485A-BDCD-CA147914F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3"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5"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6"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8"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EC12-7D10-4CDE-9007-BC08A55F7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s time for you to explore on your own. Go back through and re-read explanations, read cited materials, etc.</a:t>
            </a:r>
            <a:endParaRPr b="0" lang="en-US" sz="30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E0A3-7069-4B5E-A161-88122EEAC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8" name="" descr=""/>
          <p:cNvPicPr/>
          <p:nvPr/>
        </p:nvPicPr>
        <p:blipFill>
          <a:blip r:embed="rId1"/>
          <a:stretch/>
        </p:blipFill>
        <p:spPr>
          <a:xfrm>
            <a:off x="685800" y="1447920"/>
            <a:ext cx="7772400" cy="4952880"/>
          </a:xfrm>
          <a:prstGeom prst="rect">
            <a:avLst/>
          </a:prstGeom>
          <a:ln w="0">
            <a:noFill/>
          </a:ln>
        </p:spPr>
      </p:pic>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5D64-E843-4A98-B7AA-19D1CCBC3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DE75-1372-49C2-BE5F-0933951E3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1" name="Picture 4" descr="PEFormatSmall"/>
          <p:cNvPicPr/>
          <p:nvPr/>
        </p:nvPicPr>
        <p:blipFill>
          <a:blip r:embed="rId1"/>
          <a:stretch/>
        </p:blipFill>
        <p:spPr>
          <a:xfrm>
            <a:off x="0" y="42840"/>
            <a:ext cx="9220320" cy="6815160"/>
          </a:xfrm>
          <a:prstGeom prst="rect">
            <a:avLst/>
          </a:prstGeom>
          <a:ln w="0">
            <a:noFill/>
          </a:ln>
        </p:spPr>
      </p:pic>
      <p:sp>
        <p:nvSpPr>
          <p:cNvPr id="272"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1"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2"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4"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E91B-6444-48D1-B87B-DAFCA7023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7322-881B-4DD1-922C-D145CEDEB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9" name="Picture 4" descr="PEFormatSmall"/>
          <p:cNvPicPr/>
          <p:nvPr/>
        </p:nvPicPr>
        <p:blipFill>
          <a:blip r:embed="rId1"/>
          <a:stretch/>
        </p:blipFill>
        <p:spPr>
          <a:xfrm>
            <a:off x="0" y="42840"/>
            <a:ext cx="9220320" cy="6815160"/>
          </a:xfrm>
          <a:prstGeom prst="rect">
            <a:avLst/>
          </a:prstGeom>
          <a:ln w="0">
            <a:noFill/>
          </a:ln>
        </p:spPr>
      </p:pic>
      <p:sp>
        <p:nvSpPr>
          <p:cNvPr id="290"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9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EAA6-24AD-4F24-BC9D-A1F19A1AC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C389-A8C9-4584-BD32-1330A1905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4" descr="PEFormatSmall"/>
          <p:cNvPicPr/>
          <p:nvPr/>
        </p:nvPicPr>
        <p:blipFill>
          <a:blip r:embed="rId1"/>
          <a:stretch/>
        </p:blipFill>
        <p:spPr>
          <a:xfrm>
            <a:off x="0" y="42840"/>
            <a:ext cx="9220320" cy="6815160"/>
          </a:xfrm>
          <a:prstGeom prst="rect">
            <a:avLst/>
          </a:prstGeom>
          <a:ln w="0">
            <a:noFill/>
          </a:ln>
        </p:spPr>
      </p:pic>
      <p:sp>
        <p:nvSpPr>
          <p:cNvPr id="309"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C8B0-8B11-4B44-8258-39BC3E1B1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66CB-ED1C-4E85-9BF6-B0695BD61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8" name="Picture 4" descr="PEFormatSmall"/>
          <p:cNvPicPr/>
          <p:nvPr/>
        </p:nvPicPr>
        <p:blipFill>
          <a:blip r:embed="rId1"/>
          <a:stretch/>
        </p:blipFill>
        <p:spPr>
          <a:xfrm>
            <a:off x="0" y="42840"/>
            <a:ext cx="9220320" cy="6815160"/>
          </a:xfrm>
          <a:prstGeom prst="rect">
            <a:avLst/>
          </a:prstGeom>
          <a:ln w="0">
            <a:noFill/>
          </a:ln>
        </p:spPr>
      </p:pic>
      <p:sp>
        <p:nvSpPr>
          <p:cNvPr id="329"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4"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t used. See the November 2000 Under The Hood column for more information on the IA-64 gp."</a:t>
            </a:r>
            <a:endParaRPr b="0" lang="en-US" sz="3200" spc="-1" strike="noStrike">
              <a:solidFill>
                <a:srgbClr val="000000"/>
              </a:solidFill>
              <a:latin typeface="Arial"/>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AD5F-4255-4693-8085-91F23C9DD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3378-5199-4FCA-B465-18E786302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 name="Group 3"/>
          <p:cNvGrpSpPr/>
          <p:nvPr/>
        </p:nvGrpSpPr>
        <p:grpSpPr>
          <a:xfrm>
            <a:off x="6553080" y="3124080"/>
            <a:ext cx="1676520" cy="368280"/>
            <a:chOff x="6553080" y="3124080"/>
            <a:chExt cx="1676520" cy="368280"/>
          </a:xfrm>
        </p:grpSpPr>
        <p:sp>
          <p:nvSpPr>
            <p:cNvPr id="82"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5"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8"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0"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1"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2"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E38F-B108-4FDD-BE66-279486714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4" name="Group 3"/>
          <p:cNvGrpSpPr/>
          <p:nvPr/>
        </p:nvGrpSpPr>
        <p:grpSpPr>
          <a:xfrm>
            <a:off x="6553080" y="5181480"/>
            <a:ext cx="1676520" cy="368280"/>
            <a:chOff x="6553080" y="5181480"/>
            <a:chExt cx="1676520" cy="368280"/>
          </a:xfrm>
        </p:grpSpPr>
        <p:sp>
          <p:nvSpPr>
            <p:cNvPr id="95"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8"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0"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1"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4"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B559-CFF7-4272-ACAD-13F06553A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6"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8"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9"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615C-B7D7-4BF6-9792-1E126853D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4" name="Group 10"/>
          <p:cNvGrpSpPr/>
          <p:nvPr/>
        </p:nvGrpSpPr>
        <p:grpSpPr>
          <a:xfrm>
            <a:off x="6553080" y="2819520"/>
            <a:ext cx="1676520" cy="368280"/>
            <a:chOff x="6553080" y="2819520"/>
            <a:chExt cx="1676520" cy="368280"/>
          </a:xfrm>
        </p:grpSpPr>
        <p:sp>
          <p:nvSpPr>
            <p:cNvPr id="115"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A38C-DC65-495F-8042-2CD535EC6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2-04-22T00:07:06Z</dcterms:modified>
  <cp:revision>222</cp:revision>
  <dc:subject/>
  <dc:title>The Life of Binaries Part 2</dc:title>
</cp:coreProperties>
</file>