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466B-E07D-4A01-9D31-87E285905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5602-EBEE-47BD-A47E-1849BA984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1B28-C66A-401B-9DF5-B58862F9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02E62-D304-4048-B5B5-A69425F8C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0563-2B76-4980-8C81-1012E7D0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EF00A-A478-4F7B-ADC5-90A73EC80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F7BA6-FE6A-49AE-90AC-7465B9192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DA5C8-DEBA-4CAD-A5B7-C81510FF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4CB9-BCBF-4831-B75C-4BB1C316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728AF-1EBC-44D3-B62E-A18F968B3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49E0-3F44-4754-BA54-4F4D351D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278D4-8888-415A-B071-789F2339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9DDC-CBDD-40A6-B06F-A2359C4A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E09E-B7FD-4794-9642-6D71BB09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AFE7-A59C-4592-942B-D5FD52E4F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7855-7150-497C-8D93-2420EC690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6243-4CA0-4D34-A58F-9393C4E6C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
        <p:nvSpPr>
          <p:cNvPr id="54"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C636-7B26-4266-B288-89D5E7D87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4"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do anything malicious other than replicate, and whether that’s malicious or not is in the eye of the beholder</a:t>
            </a:r>
            <a:endParaRPr b="0" lang="en-US" sz="2800" spc="-1" strike="noStrike">
              <a:solidFill>
                <a:srgbClr val="000000"/>
              </a:solidFill>
              <a:latin typeface="Arial"/>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3907-A655-4295-A49B-065B8CB6B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re doing this on your own, make sure you don'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9600-D22D-467B-ACE8-242A8E64A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30"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s all so obvious!</a:t>
            </a:r>
            <a:endParaRPr b="0" lang="en-US" sz="2800" spc="-1" strike="noStrike">
              <a:solidFill>
                <a:srgbClr val="000000"/>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9104-AD48-4134-B797-982964EA2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8D27-0C03-4072-9B67-A7AC25449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ja-JP"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FD1C-1801-4E86-9982-AE60155A0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5895-74EB-421D-9E4A-E9BA5BDE2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2"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5"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6"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8"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545F-0703-448D-86E8-5EB303FCA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1"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3"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5"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6"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7"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8"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4320-9650-4054-A393-639B2D29C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1"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4"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2470-B13B-4A22-8074-331CA6851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6"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83B0-972D-413E-B797-714B00E22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BD04-E778-4AA3-BAAE-9AC8DBBDB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D1DE-0084-42B0-93FA-9A8E325C8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2" name="Picture 5" descr="ReleaseHello_OptionalBefore.png"/>
          <p:cNvPicPr/>
          <p:nvPr/>
        </p:nvPicPr>
        <p:blipFill>
          <a:blip r:embed="rId1"/>
          <a:stretch/>
        </p:blipFill>
        <p:spPr>
          <a:xfrm>
            <a:off x="0" y="1531800"/>
            <a:ext cx="3498840" cy="5326200"/>
          </a:xfrm>
          <a:prstGeom prst="rect">
            <a:avLst/>
          </a:prstGeom>
          <a:ln w="0">
            <a:noFill/>
          </a:ln>
        </p:spPr>
      </p:pic>
      <p:sp>
        <p:nvSpPr>
          <p:cNvPr id="173"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4"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5"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6"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AE61-7389-4906-B013-E6E48E355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5" descr="ReleaseHello_Hdrs.png"/>
          <p:cNvPicPr/>
          <p:nvPr/>
        </p:nvPicPr>
        <p:blipFill>
          <a:blip r:embed="rId1"/>
          <a:stretch/>
        </p:blipFill>
        <p:spPr>
          <a:xfrm>
            <a:off x="0" y="1225440"/>
            <a:ext cx="3773520" cy="5632560"/>
          </a:xfrm>
          <a:prstGeom prst="rect">
            <a:avLst/>
          </a:prstGeom>
          <a:ln w="0">
            <a:noFill/>
          </a:ln>
        </p:spPr>
      </p:pic>
      <p:pic>
        <p:nvPicPr>
          <p:cNvPr id="188" name="Picture 6" descr="ReleaseHello_text.png"/>
          <p:cNvPicPr/>
          <p:nvPr/>
        </p:nvPicPr>
        <p:blipFill>
          <a:blip r:embed="rId2"/>
          <a:stretch/>
        </p:blipFill>
        <p:spPr>
          <a:xfrm>
            <a:off x="3449520" y="990720"/>
            <a:ext cx="5694480" cy="2971800"/>
          </a:xfrm>
          <a:prstGeom prst="rect">
            <a:avLst/>
          </a:prstGeom>
          <a:ln w="0">
            <a:noFill/>
          </a:ln>
        </p:spPr>
      </p:pic>
      <p:pic>
        <p:nvPicPr>
          <p:cNvPr id="189" name="Picture 7" descr="ReleaseHello_reloc.png"/>
          <p:cNvPicPr/>
          <p:nvPr/>
        </p:nvPicPr>
        <p:blipFill>
          <a:blip r:embed="rId3"/>
          <a:stretch/>
        </p:blipFill>
        <p:spPr>
          <a:xfrm>
            <a:off x="3529080" y="4114800"/>
            <a:ext cx="5646600" cy="2738520"/>
          </a:xfrm>
          <a:prstGeom prst="rect">
            <a:avLst/>
          </a:prstGeom>
          <a:ln w="0">
            <a:noFill/>
          </a:ln>
        </p:spPr>
      </p:pic>
      <p:sp>
        <p:nvSpPr>
          <p:cNvPr id="190"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3"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4"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3" descr="UPXHello_Hdrs.png"/>
          <p:cNvPicPr/>
          <p:nvPr/>
        </p:nvPicPr>
        <p:blipFill>
          <a:blip r:embed="rId1"/>
          <a:stretch/>
        </p:blipFill>
        <p:spPr>
          <a:xfrm>
            <a:off x="0" y="1676520"/>
            <a:ext cx="3841920" cy="5181480"/>
          </a:xfrm>
          <a:prstGeom prst="rect">
            <a:avLst/>
          </a:prstGeom>
          <a:ln w="0">
            <a:noFill/>
          </a:ln>
        </p:spPr>
      </p:pic>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D9F4-B1B4-4E15-951E-81AE4C6E0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16" descr="UPXHello_rsrc.png"/>
          <p:cNvPicPr/>
          <p:nvPr/>
        </p:nvPicPr>
        <p:blipFill>
          <a:blip r:embed="rId2"/>
          <a:stretch/>
        </p:blipFill>
        <p:spPr>
          <a:xfrm>
            <a:off x="3733920" y="4495680"/>
            <a:ext cx="5410080" cy="2210040"/>
          </a:xfrm>
          <a:prstGeom prst="rect">
            <a:avLst/>
          </a:prstGeom>
          <a:ln w="0">
            <a:noFill/>
          </a:ln>
        </p:spPr>
      </p:pic>
      <p:sp>
        <p:nvSpPr>
          <p:cNvPr id="199"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200" name="Picture 15" descr="UPXHello_upx1.png"/>
          <p:cNvPicPr/>
          <p:nvPr/>
        </p:nvPicPr>
        <p:blipFill>
          <a:blip r:embed="rId3"/>
          <a:stretch/>
        </p:blipFill>
        <p:spPr>
          <a:xfrm>
            <a:off x="3733920" y="2133720"/>
            <a:ext cx="5486400" cy="2504880"/>
          </a:xfrm>
          <a:prstGeom prst="rect">
            <a:avLst/>
          </a:prstGeom>
          <a:ln w="0">
            <a:noFill/>
          </a:ln>
        </p:spPr>
      </p:pic>
      <p:pic>
        <p:nvPicPr>
          <p:cNvPr id="201" name="Picture 14" descr="UPXHello_upx0.png"/>
          <p:cNvPicPr/>
          <p:nvPr/>
        </p:nvPicPr>
        <p:blipFill>
          <a:blip r:embed="rId4"/>
          <a:stretch/>
        </p:blipFill>
        <p:spPr>
          <a:xfrm>
            <a:off x="3733920" y="-76320"/>
            <a:ext cx="5410080" cy="2379960"/>
          </a:xfrm>
          <a:prstGeom prst="rect">
            <a:avLst/>
          </a:prstGeom>
          <a:ln w="0">
            <a:noFill/>
          </a:ln>
        </p:spPr>
      </p:pic>
      <p:sp>
        <p:nvSpPr>
          <p:cNvPr id="202"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7"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8"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1"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3"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4"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A709-5D50-407B-98D0-4C156E3BC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5"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t obfuscate the addresses you could skip straight to step 4 ;)</a:t>
            </a:r>
            <a:endParaRPr b="0" lang="en-US" sz="1600" spc="-1" strike="noStrike">
              <a:solidFill>
                <a:srgbClr val="000000"/>
              </a:solidFill>
              <a:latin typeface="Arial"/>
            </a:endParaRPr>
          </a:p>
        </p:txBody>
      </p:sp>
      <p:sp>
        <p:nvSpPr>
          <p:cNvPr id="21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B6F0-39C5-4A09-B54F-75964154E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9647-352B-417A-A988-12CAA5B82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29CF-7978-4E28-B944-DB0CFD539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 name="Picture 4" descr="OffensiveComputingPackerSummary2007.png"/>
          <p:cNvPicPr/>
          <p:nvPr/>
        </p:nvPicPr>
        <p:blipFill>
          <a:blip r:embed="rId1"/>
          <a:stretch/>
        </p:blipFill>
        <p:spPr>
          <a:xfrm>
            <a:off x="0" y="17640"/>
            <a:ext cx="9144000" cy="6822720"/>
          </a:xfrm>
          <a:prstGeom prst="rect">
            <a:avLst/>
          </a:prstGeom>
          <a:ln w="0">
            <a:noFill/>
          </a:ln>
        </p:spPr>
      </p:pic>
      <p:sp>
        <p:nvSpPr>
          <p:cNvPr id="224"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5"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7"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C6C3-93B8-4893-B53A-F06E04103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DF38-0D5D-4419-83C6-858C8476DB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rimarily interested in viruses which infect PE files, but they can infect other file types as well.</a:t>
            </a:r>
            <a:endParaRPr b="0" lang="en-US" sz="32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76B1-C89E-4207-9AD2-D07224688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3"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9E2C-02A6-4D34-834F-35B7FB00B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FA0-7830-4BF2-B5CC-054744526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s life! Don't make me give you to the back of my hand!")</a:t>
            </a:r>
            <a:endParaRPr b="0" lang="en-US" sz="1400" spc="-1" strike="noStrike">
              <a:solidFill>
                <a:srgbClr val="000000"/>
              </a:solidFill>
              <a:latin typeface="Arial"/>
            </a:endParaRPr>
          </a:p>
        </p:txBody>
      </p:sp>
      <p:sp>
        <p:nvSpPr>
          <p:cNvPr id="23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20A0-A898-42D6-BB2F-D2F0685AD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2387-A9C7-436D-B7BD-1EBF2D51D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2" name="Picture 4" descr="InlineHookHotpatch.png"/>
          <p:cNvPicPr/>
          <p:nvPr/>
        </p:nvPicPr>
        <p:blipFill>
          <a:blip r:embed="rId1"/>
          <a:stretch/>
        </p:blipFill>
        <p:spPr>
          <a:xfrm>
            <a:off x="228600" y="0"/>
            <a:ext cx="8686800" cy="6278400"/>
          </a:xfrm>
          <a:prstGeom prst="rect">
            <a:avLst/>
          </a:prstGeom>
          <a:ln w="0">
            <a:noFill/>
          </a:ln>
        </p:spPr>
      </p:pic>
      <p:sp>
        <p:nvSpPr>
          <p:cNvPr id="243"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4"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5"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989F-E192-4354-B413-F5EE56B79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s the 0xbeef?</a:t>
            </a:r>
            <a:endParaRPr b="0" lang="en-US" sz="32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304B-555A-4C41-95F4-979C2D816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F90F-8E35-42B4-A0C4-DC22AE8A5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6373-2737-4948-B243-F499CD857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ilation</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sis - turning characters into lexemes, which can be grouped into toke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Analysis - Context Free Grammars in Backus-Naur form (BNF), and Parse Trees (aka Concrete Syntax T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yntax Trees (ASTs), Abstract Assembly Trees(AATs), tiling on AATs to generate assembly</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nkin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cing output object files together into a final binary which may be standalone or may depend on the loader to find external libraries for it</a:t>
            </a:r>
            <a:endParaRPr b="0" lang="en-US" sz="24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AFF5-A380-4F89-AD84-5E184A40A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D85C-4ADB-49C0-B9DA-0201DB042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3"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5"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6"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8"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83D3-4B14-4F19-8FDD-95281BFA6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s time for you to explore on your own. Go back through and re-read explanations, read cited materials, etc.</a:t>
            </a:r>
            <a:endParaRPr b="0" lang="en-US" sz="30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51D1-ADA9-4A8D-BC4D-97A27A6C4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8" name="" descr=""/>
          <p:cNvPicPr/>
          <p:nvPr/>
        </p:nvPicPr>
        <p:blipFill>
          <a:blip r:embed="rId1"/>
          <a:stretch/>
        </p:blipFill>
        <p:spPr>
          <a:xfrm>
            <a:off x="685800" y="1447920"/>
            <a:ext cx="7772400" cy="4952880"/>
          </a:xfrm>
          <a:prstGeom prst="rect">
            <a:avLst/>
          </a:prstGeom>
          <a:ln w="0">
            <a:noFill/>
          </a:ln>
        </p:spPr>
      </p:pic>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7166-8E7D-47EC-A78D-3C747CFE6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4918-F67F-42DD-9EE6-F45BEF58A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1" name="Picture 4" descr="PEFormatSmall"/>
          <p:cNvPicPr/>
          <p:nvPr/>
        </p:nvPicPr>
        <p:blipFill>
          <a:blip r:embed="rId1"/>
          <a:stretch/>
        </p:blipFill>
        <p:spPr>
          <a:xfrm>
            <a:off x="0" y="42840"/>
            <a:ext cx="9220320" cy="6815160"/>
          </a:xfrm>
          <a:prstGeom prst="rect">
            <a:avLst/>
          </a:prstGeom>
          <a:ln w="0">
            <a:noFill/>
          </a:ln>
        </p:spPr>
      </p:pic>
      <p:sp>
        <p:nvSpPr>
          <p:cNvPr id="272"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1"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2"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4"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BEAE-4832-4BB5-8A25-7A06BE2D1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77CA-AF89-4CB6-802D-BE08E21E9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9" name="Picture 4" descr="PEFormatSmall"/>
          <p:cNvPicPr/>
          <p:nvPr/>
        </p:nvPicPr>
        <p:blipFill>
          <a:blip r:embed="rId1"/>
          <a:stretch/>
        </p:blipFill>
        <p:spPr>
          <a:xfrm>
            <a:off x="0" y="42840"/>
            <a:ext cx="9220320" cy="6815160"/>
          </a:xfrm>
          <a:prstGeom prst="rect">
            <a:avLst/>
          </a:prstGeom>
          <a:ln w="0">
            <a:noFill/>
          </a:ln>
        </p:spPr>
      </p:pic>
      <p:sp>
        <p:nvSpPr>
          <p:cNvPr id="290"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9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DCEB-7D17-4ED1-B751-DB0B9C6BD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744E-B1AE-4E67-A898-2C6251A9B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4" descr="PEFormatSmall"/>
          <p:cNvPicPr/>
          <p:nvPr/>
        </p:nvPicPr>
        <p:blipFill>
          <a:blip r:embed="rId1"/>
          <a:stretch/>
        </p:blipFill>
        <p:spPr>
          <a:xfrm>
            <a:off x="0" y="42840"/>
            <a:ext cx="9220320" cy="6815160"/>
          </a:xfrm>
          <a:prstGeom prst="rect">
            <a:avLst/>
          </a:prstGeom>
          <a:ln w="0">
            <a:noFill/>
          </a:ln>
        </p:spPr>
      </p:pic>
      <p:sp>
        <p:nvSpPr>
          <p:cNvPr id="309"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1541-3F95-4B71-9AB3-60A8A518C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8117-7834-4F36-81AB-DBFF9DC81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8" name="Picture 4" descr="PEFormatSmall"/>
          <p:cNvPicPr/>
          <p:nvPr/>
        </p:nvPicPr>
        <p:blipFill>
          <a:blip r:embed="rId1"/>
          <a:stretch/>
        </p:blipFill>
        <p:spPr>
          <a:xfrm>
            <a:off x="0" y="42840"/>
            <a:ext cx="9220320" cy="6815160"/>
          </a:xfrm>
          <a:prstGeom prst="rect">
            <a:avLst/>
          </a:prstGeom>
          <a:ln w="0">
            <a:noFill/>
          </a:ln>
        </p:spPr>
      </p:pic>
      <p:sp>
        <p:nvSpPr>
          <p:cNvPr id="329"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4"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t used. See the November 2000 Under The Hood column for more information on the IA-64 gp."</a:t>
            </a:r>
            <a:endParaRPr b="0" lang="en-US" sz="3200" spc="-1" strike="noStrike">
              <a:solidFill>
                <a:srgbClr val="000000"/>
              </a:solidFill>
              <a:latin typeface="Arial"/>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137F-A352-40A4-A431-F22A6349F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D7B4-CCB9-4EF8-A6FF-15076720A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 name="Group 3"/>
          <p:cNvGrpSpPr/>
          <p:nvPr/>
        </p:nvGrpSpPr>
        <p:grpSpPr>
          <a:xfrm>
            <a:off x="6553080" y="3124080"/>
            <a:ext cx="1676520" cy="368280"/>
            <a:chOff x="6553080" y="3124080"/>
            <a:chExt cx="1676520" cy="368280"/>
          </a:xfrm>
        </p:grpSpPr>
        <p:sp>
          <p:nvSpPr>
            <p:cNvPr id="82"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5"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8"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0"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1"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2"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59C3-B48E-462B-AA58-336736C9E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4" name="Group 3"/>
          <p:cNvGrpSpPr/>
          <p:nvPr/>
        </p:nvGrpSpPr>
        <p:grpSpPr>
          <a:xfrm>
            <a:off x="6553080" y="5181480"/>
            <a:ext cx="1676520" cy="368280"/>
            <a:chOff x="6553080" y="5181480"/>
            <a:chExt cx="1676520" cy="368280"/>
          </a:xfrm>
        </p:grpSpPr>
        <p:sp>
          <p:nvSpPr>
            <p:cNvPr id="95"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8"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0"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1"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4"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A176-D1AD-42BF-9EF8-DED4DF4B9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6"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8"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9"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1A9B-135A-413C-BFC3-039C7620F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4" name="Group 10"/>
          <p:cNvGrpSpPr/>
          <p:nvPr/>
        </p:nvGrpSpPr>
        <p:grpSpPr>
          <a:xfrm>
            <a:off x="6553080" y="2819520"/>
            <a:ext cx="1676520" cy="368280"/>
            <a:chOff x="6553080" y="2819520"/>
            <a:chExt cx="1676520" cy="368280"/>
          </a:xfrm>
        </p:grpSpPr>
        <p:sp>
          <p:nvSpPr>
            <p:cNvPr id="115"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5812-261A-4041-9B9B-CF790C095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2-04-22T00:07:06Z</dcterms:modified>
  <cp:revision>222</cp:revision>
  <dc:subject/>
  <dc:title>The Life of Binaries Part 2</dc:title>
</cp:coreProperties>
</file>