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03C6-5BA3-4825-A230-BBA20D9C6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D7F9-478F-43E8-B55D-E06BA7DD0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s in the manpage, available by typing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 hexdum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 xxd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a *nix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BEF1-D466-4213-AA95-3564F9F74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F3BD-3A05-45AC-AEA0-7F6853CBA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list of format specif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ources.redhat.com/gdb/current/onlinedocs/gdb.html#SEC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CF56-35E2-4320-A3B5-0269301AE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list of format specif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ources.redhat.com/gdb/current/onlinedocs/gdb.html#SEC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x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MT is a repeat count followed by a format letter and a size l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 letters are o(octal), x(hex), d(decimal), u(unsigned decimal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(binary), f(float), a(address), i(instruction), c(char) and s(string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ze letters are b(byte), h(halfword), w(word), g(giant, 8 by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ca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use /r and /m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A2E0-1D57-4DA3-95DC-03772212B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E1C5-7BF5-4448-9FD3-004660DF1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168D-CE40-4538-8232-007FCDC52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9665-899E-4087-825E-508911987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 versions of the gnu tools, instead of using lik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 -0x4(%ebp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show it as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 0xFFFFFFFC(%ebp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ore links talking about the dif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00w00.org/files/articles/att-vs-intel.txt &lt;- haxors ;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en.wikipedia.org/wiki/X86_assembly_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ig9.com/articles/att-synt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AB82-1D5D-433D-A2AF-74BF2768E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s in the manpage, available by typing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 gc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a *nix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D04D-2F6B-4BEC-A5DE-F0713A783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s in the manpage, available by typing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 objdum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a *nix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ide: the equivalent on Mac OS X is ot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AB1F-9AA6-42A7-AED5-3952E7F18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47F2-B5F3-475D-91CB-F0FE9197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7041-159B-4AC0-BF34-A60DDA59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262A-0115-4715-B20A-681CF71B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7C12-616C-4C37-8A1C-92D1A7F4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BB46-0CCB-405C-A3B8-B7B4134D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43EC-9FCF-4CB9-85DC-F821338F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26A5-120F-4939-8B95-26AA6764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3537-15FB-4D55-A230-074361CE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A0C0-D96A-4C81-9BC5-78D965CC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D69D-55D3-494C-A345-86770D15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A01C-0F9A-4C43-9D91-8D46511C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FE91-AB45-41DA-9FBD-6A3A3281D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 x86 Part 3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inux Tools &amp;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eno Kovah – 2009/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kovah at g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65818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ed for Public Release: 10-3348. Distribution Un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dump -d -M intel he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lo:     file format elf32-i38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ssembly of section .in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8048274 &lt;_init&gt;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4:       55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e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5:       89 e5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    ebp,e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7:       53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eb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8:       83 ec 04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    esp,0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b:       e8 00 00 00 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   8048280 &lt;_init+0xc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8048374 &lt;main&gt;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4:       8d 4c 24 04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    ecx,[esp+0x4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8:       83 e4 f0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   esp,0xfffffff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b:       ff 71 fc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DWORD PTR [ecx-0x4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e:       55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e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f:       89 e5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    ebp,e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81:       51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ec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04E3-20D8-4B71-9919-54F3D1779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xdump &amp; xx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useful to look at a hexdump to see opcodes/operands or raw file format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xdump, hd - ASCII, decimal, hexadecimal, octal d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xdump -C for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onica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ex &amp; ASCII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for a quick peek at the h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xd - make a hexdump or do the re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s a quick and dirty hex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d hello &gt; hello.du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 hello.du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d -r hello.dump &gt; h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1004-2E44-4A16-857C-B5C3ED60A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- the GNU debug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mand line debugger - quite a bit less user-friendly for begin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wrappers such as ddd but I tried them back when I was learning asm and did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find them to be helpful. YMM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 for starting a program in GDB in this cla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b &lt;program name&gt; -x &lt;command 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b Example1 -x myCm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9B04-9918-405E-86B6-C4C1F25F2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3240" y="639612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Book p. 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ut GDB -x &lt;command file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what more memorable long form is     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command=&lt;command fil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command file&gt; is a plaintext file with a list of commands that GDB should execute upon starting up. Sort of like scripting the debugg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sent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making GDB reasonable to work with for extended periods of time (I used GDB for many years copying and pasting my command list every time I started GDB, so I was super ultra happy when I found this op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89DA-90F0-4087-9CD4-1CDD46CD6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internal navigation of available 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run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&lt;argv&gt;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run the program passing the arguments in &lt;argv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for Example 2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1 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uld be what we used in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7F5F-2468-442D-B534-96F36AAD8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command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displa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nts out a statement every time the debugger st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/FMT EX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MT can be a combination of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- display as asm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or d - display as hex or 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or h or w - display as byte, halfword (2 bytes), word (4 bytes - as opposed to intel calling that a double word. Confusing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- character string (will just keep reading till it hits a null charac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 - display &lt;number&gt; worth of things (instructions, bytes, words, strings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 displa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see all outstanding display statements and their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isplay &lt;num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remove a display statement by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E94F-E059-49D0-96E2-D21A34F5E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command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/FMT EX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x for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ine memor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ways assumes the given value is a memory address, and it dereferences it to look at the valu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at memory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/FMT EX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print the value of an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 try to dereference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commands take the same type of format specifier as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db) x/x $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bffbcb78:     0xbffbcbe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db) print/x $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2 = 0xbffbcb7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db) x/x $eax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1:    Cannot access memory at address 0x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db) print/x $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3 = 0x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49D9-B1AE-4B11-AF0F-6A54E5CB7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command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all breakpoint-related commands see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lp breakpoints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set a breakpo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debugging symbols you can do things like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main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Without them you can do things lik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*&lt;address&gt;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o break at a given memory addr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e: gdb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 interpretation of where a function begins may exclude the function prolog like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sh ebp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 breakpoints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 b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show currently set breakpoi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"delete &lt;num&gt; - deletes breakpoint number &lt;num&gt;, where &lt;num&gt; came from "info breakpoints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B5D0-B9BE-4DD5-BA97-4C39D1D97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7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or GDB 7, released Sep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ks to Dave Keppler for notifying me of the availability of these new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-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'rs') -- Step program backward until it reaches the beginning of a previous source l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-step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Step backward exactly one instr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-contin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'rc') -- Continue program being debugged but run it in rever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-fini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Execute backward until just before the selected stack frame is cal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7B33-ED04-4B8C-8365-CCC647713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7 command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-ne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'rn') -- Step program backward, proceeding through subroutine ca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-nex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'rni') -- Step backward one instruction, but proceed through called subroutin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 exec-direction (forward/revers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Set direction of execution. All subsequent execution commands (continue, step, until etc.) will run the program being debugged in the selected dire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 "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assem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 command now supports an optional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modifier to print mixed source+assemb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assem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 command with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r, print the raw instructions in hex as well as in symbolic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disassembl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full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36A3-0037-4700-A542-75AC4B18C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materials is licensed under a Creative Commons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are Alike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icen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creativecommons.org/licenses/by-sa/3.0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5FD8-E2CB-4875-B6B6-98ED21B10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523880" y="2049480"/>
            <a:ext cx="632484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l GDB commands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10i $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x $e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x $eb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x $ec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x $e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x $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x $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x $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/32xw $e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29B8-2904-4B55-972E-93FB74490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 run with commands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43480" y="0"/>
            <a:ext cx="687276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db)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ing program: /home/user/hel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eakpoint 1, main () at hello.c: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4               printf("hello\n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: x/32xw $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bf9a2550:     0xb7f46db0      0xbf9a2570      0xbf9a25c8      0xb7df24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bf9a2560:     0xb7f53ce0      0x080483b0      0xbf9a25c8      0xb7df24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ni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: /x $ebp = 0xbf9a25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: /x $esi = 0xb7f53ce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: /x $edi = 0x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: /x $edx = 0xbf9a25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: /x $ecx = 0xbf9a25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: /x $ebx = 0xb7f26ff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: /x $eax = 0x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: x/10i $e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85 &lt;main+17&gt;:    movl   $0x8048460,(%es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8c &lt;main+24&gt;:    call   0x80482d4 &lt;puts@pl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91 &lt;main+29&gt;:    mov    $0x1234,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96 &lt;main+34&gt;:    add    $0x4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99 &lt;main+37&gt;:    pop    %ec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9a &lt;main+38&gt;:    pop    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9b &lt;main+39&gt;:    lea    -0x4(%ecx)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9e &lt;main+42&gt;:    ret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9f:      nop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80483a0 &lt;__libc_csu_fini&gt;:    push   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4419720" y="304920"/>
            <a:ext cx="3124080" cy="914400"/>
          </a:xfrm>
          <a:prstGeom prst="wedgeRoundRectCallout">
            <a:avLst>
              <a:gd name="adj1" fmla="val -76115"/>
              <a:gd name="adj2" fmla="val 430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line printed here if source i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DECA-6404-42EB-9F1D-B24FCEAA1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steps one asm instruction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always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int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brout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steps one source line at a time (if no source is available, works like ste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steps until the next source line, not stepping into subrout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 source available, this will work like a stepi that will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ove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brout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8B95-DF93-4C14-82B2-1717A4C40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DB misc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disassembly-flavor int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use intel syntax rather than AT&amp;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in, not using now, just good to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run until you hit another breakpoint or the program 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tr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print a trace of the call stack, showing all the functions which were called before the current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640A-6025-4CC1-9C36-74730001B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time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examples with G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C60E-BA49-42D8-A250-6242A1D18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 vs. AT&amp;T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l: Destination &lt;- Sourc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. Think algebra or C: y = 2x +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  ebp, 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  esp, 0x14 ; (esp = esp + 0x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&amp;T: Source(s) -&gt;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nix/GNU. Think elementary school: 1 + 2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 %esp, 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  $0x14,%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registers get a % prefix and immediates get a 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classes will use Intel syntax except in this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important to know both, so you can read documents in either form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AAC1-B49C-41D1-BA92-5399C6835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 vs AT&amp;T Syntax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y opinion the hardest-to-read difference is for r/m32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ntel 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expressed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base + index*scale + disp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T&amp;T 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expressed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isp(base, index,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  DWORD PTR [ebx+esi*4-0xe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  *-0xe8(%ebx,%esi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   eax, DWORD PTR [ebp+0x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   0x8(%ebp), %e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    eax, [ebx-0xe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    -0xe8(%ebx), %e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CA4D-1ED1-40F7-9A5E-41D868B18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 vs AT&amp;T Syntax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nstructions which can operate on different sizes, the mnemonic will have an indicator of the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b - operates on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/movw - operates on word (2 by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l - operates 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word) (4 by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does indicate size with things like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 dword ptr [eax], but i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just not in the actual mnemonic of the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6A98-8073-4825-ABC5-18E258919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c - GNU project C and C++ compi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le for many *nix systems (Linux/BSD/OSX/Solar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many other architectures besides x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C/C++ options, some architecture-specific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option we care about is building debug symbols. Use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ggd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 line arg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ally all of the VisualStudio options in the project properties page are just fancy wrappers around giving their compiler command line arguments. The equivalent on *nix is for to developers create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fil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which are a configuration or configurations which describes which options will be used for compilation, how files will be linked together, etc. We w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get that complicated in this class, so we can just specify command line arguments manu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5807-60F2-424C-B36D-316FDBC3F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3240" y="639612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Book p. 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c basic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c -o &lt;output filename&gt; &lt;input file nam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c -o hello hello.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-o and output filename are unspecified, default output filename is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o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or legacy reas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e will be u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c -ggdb -o &lt;filename&gt; &lt;filename&gt;.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c -ggdb -o Example1 Example1.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4E3F-84A5-4CC6-803A-4FC7F1A12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dump - display information from object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fil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an intermediate file created during compilation but before linking, or a fully linked exec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our purposes means any ELF file - the executable format standard for 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thing we care about is -d to disassemble a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override the output syntax with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 inte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for getting an alternative perspective on what an instruction is doing, while learning AT&amp;T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3486-9F16-491C-833B-DCF0BCA12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3240" y="639612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Book p. 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dump -d he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lo:     file format elf32-i38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ssembly of section .ini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8048274 &lt;_init&gt;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4:       55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5:       89 e5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7:       53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%eb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8:       83 ec 04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    $0x4,%e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27b:       e8 00 00 00 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   8048280 &lt;_init+0xc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8048374 &lt;main&gt;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4:       8d 4c 24 04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    0x4(%esp),%ec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8:       83 e4 f0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   $0xfffffff0,%e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b:       ff 71 fc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l  -0x4(%ec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e:       55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7f:       89 e5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48381:       51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sh   %ec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98B5-941E-4FCC-8EBF-29B22EAB5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1T16:28:55Z</dcterms:created>
  <dc:creator>yo mamma</dc:creator>
  <dc:description/>
  <dc:language>en-US</dc:language>
  <cp:lastModifiedBy>bla</cp:lastModifiedBy>
  <dcterms:modified xsi:type="dcterms:W3CDTF">2012-05-12T23:33:57Z</dcterms:modified>
  <cp:revision>55</cp:revision>
  <dc:subject/>
  <dc:title>PowerPoint Presentation</dc:title>
</cp:coreProperties>
</file>