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94DD-3A19-4D6A-A69D-F381C02DE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541D-E686-4BB6-A0CA-11FADD01F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in the manpage, available by typin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hexdum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xx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a *nix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04F9-CF0B-42D6-A30F-6E92EBFCB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88CA-E18E-48B9-861C-DB9EF1AB4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list of format spec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ources.redhat.com/gdb/current/onlinedocs/gdb.html#SEC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2210-3E3F-41C7-A122-9CD434D2D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list of format spec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ources.redhat.com/gdb/current/onlinedocs/gdb.html#SEC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x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MT is a repeat count followed by a format letter and a size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 letters are o(octal), x(hex), d(decimal), u(unsigned decimal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(binary), f(float), a(address), i(instruction), c(char) and s(str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ze letters are b(byte), h(halfword), w(word), g(giant, 8 by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ca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use /r and /m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338B-480E-4242-BFD0-004B766A8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890F-43BC-449D-856B-805AD7CD3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7270-68AF-4274-A671-060A92DFE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B814-2215-4631-93C3-8B4B64614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 versions of the gnu tools, instead of using lik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 -0x4(%ebp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how it a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 0xFFFFFFFC(%ebp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ore links talking about the dif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00w00.org/files/articles/att-vs-intel.txt &lt;- haxors ;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X86_assembly_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ig9.com/articles/att-syn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ED0B-0371-49CF-B9C6-3AF0ED3F7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in the manpage, available by typin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gc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a *nix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8147-0F29-4F98-8A69-D2F24B167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in the manpage, available by typin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objdum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a *nix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de: the equivalent on Mac OS X is o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CEE5-C1D9-45A7-9256-38CB8293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88E1-5A88-4A76-824C-B01AC35A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3271-836C-417E-B82F-AAD6340B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8912-CAD4-40B4-96C5-3369A563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ECC4-D921-4EBE-8290-DF1BB8ED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075-3AE0-4CA1-BE5D-550D2FDE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2F7E-C800-44B3-9382-3FF0FE9B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A98E-BC48-456B-A664-937DE352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E3B-D2E1-4A03-9B0B-5828FC01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183F-2D82-4E5C-934D-41D80A68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567-FE08-4B79-9260-2E83D341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7EAD-A587-48D8-ACDF-1D080907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C2EC-9DC4-489B-8A93-0FBC44E9F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 x86 Part 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inux Tools &amp;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eno Kovah – 2009/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kovah at g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65818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ed for Public Release: 10-3348. Distribution Un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dump -d -M intel he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lo:     file format elf32-i3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sembly of section .in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8048274 &lt;_init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4:       55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5:       89 e5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    ebp,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7:       53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eb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8:       83 ec 04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    esp,0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b:       e8 00 00 00 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  8048280 &lt;_init+0x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8048374 &lt;main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4:       8d 4c 24 04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    ecx,[esp+0x4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8:       83 e4 f0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   esp,0xfffffff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b:       ff 71 fc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DWORD PTR [ecx-0x4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e:       55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f:       89 e5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    ebp,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81:       51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e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6990-3403-4C7B-BA28-86CCB1DAE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xdump &amp; xx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useful to look at a hexdump to see opcodes/operands or raw file format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xdump, hd - ASCII, decimal, hexadecimal, octal d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xdump -C for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ica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x &amp; ASCII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for a quick peek at the h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d - make a hexdump or do the re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s a quick and dirty hex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d hello &gt; hello.d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hello.d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d -r hello.dump &gt; 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790D-9379-49E0-B5A7-B7BCF0593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- the GNU debu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and line debugger - quite a bit less user-friendly for begin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wrappers such as ddd but I tried them back when I was learning asm and did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find them to be helpful. YM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 for starting a program in GDB in this cl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b &lt;program name&gt; -x &lt;command 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b Example1 -x myCm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E039-D8CF-4A53-B098-75EA0335B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3240" y="63961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ook p. 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GDB -x &lt;command file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what more memorable long form is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command=&lt;command fil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command file&gt; is a plaintext file with a list of commands that GDB should execute upon starting up. Sort of like scripting the debug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making GDB reasonable to work with for extended periods of time (I used GDB for many years copying and pasting my command list every time I started GDB, so I was super ultra happy when I found this op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9B81-08E9-46BA-8AD3-9A7D17698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internal navigation of available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run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&lt;argv&gt;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run the program passing the arguments in &lt;argv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for Example 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1 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uld be what we used in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AE59-4722-4374-BF94-B0F8CF3DC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command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displa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nts out a statement every time the debugger st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/FMT E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MT can be a combination of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- display as asm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or d - display as hex or 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or h or w - display as byte, halfword (2 bytes), word (4 bytes - as opposed to intel calling that a double word. Confusing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- character string (will just keep reading till it hits a null charac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 - display &lt;number&gt; worth of things (instructions, bytes, words, strings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 displa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ee all outstanding display statements and their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isplay &lt;num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remove a display statement by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B1CA-CA50-4E8F-B20E-D63DE8068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command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/FMT EX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x for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memor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ways assumes the given value is a memory address, and it dereferences it to look at the valu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memory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/FMT EX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rint the value of an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try to dereference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commands take the same type of format specifier a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x/x $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bffbcb78:     0xbffbcbe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print/x $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 = 0xbffbcb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x/x $eax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1:    Cannot access memory at address 0x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print/x $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3 = 0x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E918-5C1F-4BF9-8EF7-016EF2F5F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command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ll breakpoint-related commands see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p breakpoint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set a break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debugging symbols you can do things like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mai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Without them you can do things lik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*&lt;address&gt;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break at a given memory addr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e: gdb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interpretation of where a function begins may exclude the function prolog like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sh ebp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 breakpoint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 b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show currently set break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"delete &lt;num&gt; - deletes breakpoint number &lt;num&gt;, where &lt;num&gt; came from "info breakpoints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1405-ABDA-4FA5-B5D0-F77B93692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7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or GDB 7, released Sep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to Dave Keppler for notifying me of the availability of these new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'rs') -- Step program backward until it reaches the beginning of a previous source 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ste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Step backward exactly one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contin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'rc') -- Continue program being debugged but run it in rever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fini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Execute backward until just before the selected stack frame is ca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39DC-A8D4-4561-A8FD-C0E669B4C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7 command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'rn') -- Step program backward, proceeding through subroutine ca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nex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'rni') -- Step backward one instruction, but proceed through called subrouti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exec-direction (forward/revers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Set direction of execution. All subsequent execution commands (continue, step, until etc.) will run the program being debugged in the selected dir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 "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ssem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 command now supports an optional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modifier to print mixed source+assemb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ssem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 command with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r, print the raw instructions in hex as well as in symbolic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disassembl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full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3DB5-7C38-4917-913F-CB6348855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materials is licensed under a Creative Commons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e Alik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icen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creativecommons.org/licenses/by-sa/3.0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6018-E01C-4A56-A9C9-C129DD1D7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23880" y="2049480"/>
            <a:ext cx="632484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 GDB commands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10i $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b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c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32xw $e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7C90-93A8-4F0A-A8E4-2B769AA79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 run with commands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43480" y="0"/>
            <a:ext cx="687276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ing program: /home/user/hel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point 1, main () at hello.c: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4               printf("hello\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: x/32xw $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bf9a2550:     0xb7f46db0      0xbf9a2570      0xbf9a25c8      0xb7df2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bf9a2560:     0xb7f53ce0      0x080483b0      0xbf9a25c8      0xb7df2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ni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: /x $ebp = 0xbf9a25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: /x $esi = 0xb7f53ce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: /x $edi = 0x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: /x $edx = 0xbf9a25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: /x $ecx = 0xbf9a25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: /x $ebx = 0xb7f26ff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 /x $eax = 0x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 x/10i $e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85 &lt;main+17&gt;:    movl   $0x8048460,(%es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8c &lt;main+24&gt;:    call   0x80482d4 &lt;puts@pl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1 &lt;main+29&gt;:    mov    $0x1234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6 &lt;main+34&gt;:    add    $0x4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9 &lt;main+37&gt;:    pop    %e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a &lt;main+38&gt;:    pop 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b &lt;main+39&gt;:    lea    -0x4(%ecx)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e &lt;main+42&gt;:    ret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f:      nop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a0 &lt;__libc_csu_fini&gt;:    push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4419720" y="304920"/>
            <a:ext cx="3124080" cy="914400"/>
          </a:xfrm>
          <a:prstGeom prst="wedgeRoundRectCallout">
            <a:avLst>
              <a:gd name="adj1" fmla="val -76115"/>
              <a:gd name="adj2" fmla="val 43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line printed here if source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6304-A15D-4552-9408-3D5B82D2E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teps one asm instruction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lways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int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rout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teps one source line at a time (if no source is available, works like ste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teps until the next source line, not stepping into subrout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source available, this will work like a stepi that will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ove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rout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07A0-CF0F-4826-92DF-2E2A49B17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misc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disassembly-flavor int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use intel syntax rather than AT&amp;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, not using now, just good to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run until you hit another breakpoint or the program 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tr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rint a trace of the call stack, showing all the functions which were called before the current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6869-DB6B-4CDC-B72E-C1E10E1A1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tim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examples with G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2858-18B1-47AD-9570-1C6B50A57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 vs. AT&amp;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: Destination &lt;- Sourc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. Think algebra or C: y = 2x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  ebp, 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 esp, 0x14 ; (esp = esp + 0x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&amp;T: Source(s) -&gt;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nix/GNU. Think elementary school: 1 + 2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 %esp, 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$0x14,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registers get a % prefix and immediates get a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classes will use Intel syntax except in this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important to know both, so you can read documents in either form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F421-A8A0-46BA-A1EB-C6D817B30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 vs AT&amp;T Syntax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y opinion the hardest-to-read difference is for r/m32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tel 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expressed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base + index*scale + disp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T&amp;T 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expressed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(base, index,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  DWORD PTR [ebx+esi*4-0xe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  *-0xe8(%ebx,%esi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   eax, DWORD PTR [ebp+0x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   0x8(%ebp), %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    eax, [ebx-0xe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    -0xe8(%ebx), %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4546-2B63-46AC-AE53-AAF68C681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 vs AT&amp;T Syntax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structions which can operate on different sizes, the mnemonic will have an indicator of the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b - operates on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/movw - operates on word (2 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l - operates 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word) (4 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does indicate size with things like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 dword ptr [eax], but 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just not in the actual mnemonic of the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B2F6-5C96-43C3-A380-314523CFD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c - GNU project C and C++ compi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for many *nix systems (Linux/BSD/OSX/Sola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any other architectures besides x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/C++ options, some architecture-specific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option we care about is building debug symbols. Use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ggd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line arg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ally all of the VisualStudio options in the project properties page are just fancy wrappers around giving their compiler command line arguments. The equivalent on *nix is for to developers creat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fil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which are a configuration or configurations which describes which options will be used for compilation, how files will be linked together, etc. We w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get that complicated in this class, so we can just specify command line arguments manu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71E2-F870-401D-8CE7-A905BD407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3240" y="63961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ook p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c basic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c -o &lt;output filename&gt; &lt;input file nam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c -o hello hello.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-o and output filename are unspecified, default output filename i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o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or legacy reas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e will be u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c -ggdb -o &lt;filename&gt; &lt;filename&gt;.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c -ggdb -o Example1 Example1.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359A-BB2C-4597-8EEA-8877D1F81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dump - display information from object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fil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an intermediate file created during compilation but before linking, or a fully linked exec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our purposes means any ELF file - the executable format standard for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thing we care about is -d to disassemble a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override the output syntax with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 int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for getting an alternative perspective on what an instruction is doing, while learning AT&amp;T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4EDC-97CF-4B1D-BED8-0172D24D4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3240" y="63961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ook p. 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dump -d he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lo:     file format elf32-i3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sembly of section .in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8048274 &lt;_init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4:       55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5:       89 e5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7:       53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%eb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8:       83 ec 04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    $0x4,%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b:       e8 00 00 00 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  8048280 &lt;_init+0x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8048374 &lt;main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4:       8d 4c 24 04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    0x4(%esp),%e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8:       83 e4 f0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   $0xfffffff0,%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b:       ff 71 fc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l  -0x4(%ec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e:       55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f:       89 e5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81:       51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%e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22E8-7C5E-4818-AF03-94F8EDD0E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16:28:55Z</dcterms:created>
  <dc:creator>yo mamma</dc:creator>
  <dc:description/>
  <dc:language>en-US</dc:language>
  <cp:lastModifiedBy>bla</cp:lastModifiedBy>
  <dcterms:modified xsi:type="dcterms:W3CDTF">2012-05-12T23:33:57Z</dcterms:modified>
  <cp:revision>55</cp:revision>
  <dc:subject/>
  <dc:title>PowerPoint Presentation</dc:title>
</cp:coreProperties>
</file>