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8261-F0E5-40E2-BB41-0D022E72B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FA5E-519C-4E26-904D-4DD8B8553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in the manpage, available by typin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hexdum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xx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a *nix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CB16-EFD2-43AE-9443-DCAF0230B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7104-4B1B-41E3-801A-C00EBBD9F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list of format spec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ources.redhat.com/gdb/current/onlinedocs/gdb.html#SEC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53A1-83F1-4E0F-856F-B2FE687CD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list of format spec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ources.redhat.com/gdb/current/onlinedocs/gdb.html#SEC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x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MT is a repeat count followed by a format letter and a size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 letters are o(octal), x(hex), d(decimal), u(unsigned decimal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(binary), f(float), a(address), i(instruction), c(char) and s(str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letters are b(byte), h(halfword), w(word), g(giant, 8 by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ca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use /r and /m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86E1-1464-43B8-A913-E4D9A2B27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EFE0-6D85-4A48-9D4A-634347093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AE28-F9F2-47EB-9A51-D2E18C508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7DBF-9A59-4775-830F-3749DF62C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versions of the gnu tools, instead of using lik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 -0x4(%ebp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how it a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 0xFFFFFFFC(%ebp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ore links talking about the dif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00w00.org/files/articles/att-vs-intel.txt &lt;- haxors 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X86_assembly_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ig9.com/articles/att-syn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EEB9-7335-4714-921C-EB3A4EDC6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in the manpage, available by typin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gc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a *nix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4D97-494C-418F-9553-28FC0432D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in the manpage, available by typin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objdum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a *nix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de: the equivalent on Mac OS X is o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46D-DC82-4F43-9232-BEFE7420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EA9D-6635-47DD-9016-20671C92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6CC-FC33-419C-B789-369C29CD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24EC-530F-432E-BD4F-80E9E84A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632-811A-4176-9230-A3CF1B0E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24B-39A1-46AA-A7B3-9FFDD966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420-15F1-42D6-BEFD-7A0210C9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F436-F9CF-4787-BD3D-486C3AE6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00B9-E035-4EC3-B75B-7C329F5A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A1A-248C-478F-AAFE-6459B350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499D-A904-4132-B6CF-B9C2DF0F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4EE-3B42-4B17-9D74-6F4B960C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FD71-7252-4504-8C14-728F13C0F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 x86 Part 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inux Tools &amp;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eno Kovah – 2009/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kovah at g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65818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ed for Public Release: 10-3348. Distribution Un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dump -d -M intel h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lo:     file format elf32-i3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sembly of section .in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274 &lt;_init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4:       55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5:       89 e5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ebp,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7:       53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b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8:       83 ec 04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    esp,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b:       e8 00 00 00 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  8048280 &lt;_init+0x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374 &lt;main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4:       8d 4c 24 04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    ecx,[esp+0x4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8:       83 e4 f0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   esp,0xfffffff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b:       ff 71 fc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DWORD PTR [ecx-0x4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e:       55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f:       89 e5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ebp,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81:       51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5700-07F6-42D1-B174-0C7804CFD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xdump &amp; xx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useful to look at a hexdump to see opcodes/operands or raw file forma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xdump, hd - ASCII, decimal, hexadecimal, octal d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xdump -C fo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ica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x &amp; ASCII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for a quick peek at the h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d - make a hexdump or do the re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s a quick and dirty hex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d hello &gt; hello.d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hello.d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d -r hello.dump &gt; 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D0EB-5E50-449E-9EBE-8C5F65096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- the GNU debu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and line debugger - quite a bit less user-friendly for begin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wrappers such as ddd but I tried them back when I was learning asm and did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find them to be helpful. YM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 for starting a program in GDB in this 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b &lt;program name&gt; -x &lt;command 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b Example1 -x myCm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14B7-3F47-498F-9A71-DBB410872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3240" y="63961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ook p. 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GDB -x &lt;command file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what more memorable long form is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command=&lt;command fil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command file&gt; is a plaintext file with a list of commands that GDB should execute upon starting up. Sort of like scripting the debug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making GDB reasonable to work with for extended periods of time (I used GDB for many years copying and pasting my command list every time I started GDB, so I was super ultra happy when I found this o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9185-33A9-4593-AF33-D2DA38C5C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ternal navigation of available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run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&lt;argv&gt;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run the program passing the arguments in &lt;argv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for Example 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1 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uld be what we used in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EAC3-3C31-4E6D-9183-AF5FE7B63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displa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nts out a statement every time the debugger s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/FMT E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MT can be a combination of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- display as asm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or d - display as hex or 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or h or w - display as byte, halfword (2 bytes), word (4 bytes - as opposed to intel calling that a double word. Confusing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- character string (will just keep reading till it hits a null charac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 - display &lt;number&gt; worth of things (instructions, bytes, words, strings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displa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ee all outstanding display statements and their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isplay &lt;num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remove a display statement by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8E7C-DBF2-4BF2-9475-E543F1AA3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/FMT EX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x for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memor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ways assumes the given value is a memory address, and it dereferences it to look at the valu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memory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/FMT EX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int the value of an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try to dereference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commands take the same type of format specifier a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x/x $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bffbcb78:     0xbffbcbe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print/x $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 = 0xbffbcb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x/x $eax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1:    Cannot access memory at address 0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print/x $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3 = 0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1BF2-4F72-4C05-A5E2-72121AC86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ll breakpoint-related commands see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p breakpoint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set a break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debugging symbols you can do things like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mai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Without them you can do things lik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*&lt;address&gt;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break at a given memory addr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e: gdb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interpretation of where a function begins may exclude the function prolog like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sh ebp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 breakpoint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 b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show currently set break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"delete &lt;num&gt; - deletes breakpoint number &lt;num&gt;, where &lt;num&gt; came from "info breakpoint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1DA4-D3B8-4FD8-A518-874EF8FE2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7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or GDB 7, released Sep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Dave Keppler for notifying me of the availability of these new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s') -- Step program backward until it reaches the beginning of a previous source 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ste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tep backward exactly one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contin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c') -- Continue program being debugged but run it in rever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fi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Execute backward until just before the selected stack frame is ca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ACA7-C4D5-4046-A219-F4CFDEA03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7 command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n') -- Step program backward, proceeding through subroutine ca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nex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ni') -- Step backward one instruction, but proceed through called subrouti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exec-direction (forward/revers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et direction of execution. All subsequent execution commands (continue, step, until etc.) will run the program being debugged in the selected dir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 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ssem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 command now supports an optional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modifier to print mixed source+assemb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ssem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 command with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r, print the raw instructions in hex as well as in symbolic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disassembl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full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EAAA-C36E-485C-9AF3-7A308CBBC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materials is licensed under a Creative Commons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e Alik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icen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reativecommons.org/licenses/by-sa/3.0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0137-33D1-404C-B53C-8023CC272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23880" y="2049480"/>
            <a:ext cx="63248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 GDB command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10i $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b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c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32xw $e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39BB-4024-41CF-9191-5BB47EA84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run with command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43480" y="0"/>
            <a:ext cx="687276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program: /home/user/hel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point 1, main () at hello.c: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4               printf("hello\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 x/32xw $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bf9a2550:     0xb7f46db0      0xbf9a2570      0xbf9a25c8      0xb7df2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bf9a2560:     0xb7f53ce0      0x080483b0      0xbf9a25c8      0xb7df2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ni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 /x $ebp = 0xbf9a25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: /x $esi = 0xb7f53ce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: /x $edi = 0x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: /x $edx = 0xbf9a25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: /x $ecx = 0xbf9a25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: /x $ebx = 0xb7f26ff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 /x $eax = 0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 x/10i $e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85 &lt;main+17&gt;:    movl   $0x8048460,(%es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8c &lt;main+24&gt;:    call   0x80482d4 &lt;puts@pl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1 &lt;main+29&gt;:    mov    $0x1234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6 &lt;main+34&gt;:    add    $0x4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9 &lt;main+37&gt;:    pop    %e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a &lt;main+38&gt;:    pop 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b &lt;main+39&gt;:    lea    -0x4(%ecx)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e &lt;main+42&gt;:    ret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f:      nop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a0 &lt;__libc_csu_fini&gt;:    push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4419720" y="304920"/>
            <a:ext cx="3124080" cy="914400"/>
          </a:xfrm>
          <a:prstGeom prst="wedgeRoundRectCallout">
            <a:avLst>
              <a:gd name="adj1" fmla="val -76115"/>
              <a:gd name="adj2" fmla="val 43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line printed here if source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0092-5C01-4F44-8870-C9F57D244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teps one asm instruction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lways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int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rout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teps one source line at a time (if no source is available, works like ste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teps until the next source line, not stepping into subrout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source available, this will work like a stepi that will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ove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rout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65A0-2F46-42B8-8947-43D1EDDC2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misc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disassembly-flavor int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use intel syntax rather than AT&amp;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, not using now, just good to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run until you hit another breakpoint or the program 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tr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rint a trace of the call stack, showing all the functions which were called before the current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955A-5988-47FA-A334-084859274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tim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examples with G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DB30-9B33-471B-9F70-BA44E07C5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 vs. AT&amp;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: Destination &lt;- Sourc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. Think algebra or C: y = 2x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 ebp, 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 esp, 0x14 ; (esp = esp + 0x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&amp;T: Source(s) -&gt;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nix/GNU. Think elementary school: 1 + 2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%esp, 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$0x14,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registers get a % prefix and immediates get a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classes will use Intel syntax except in this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important to know both, so you can read documents in either form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A231-0518-4CED-8106-3FADF353A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 vs AT&amp;T Syntax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y opinion the hardest-to-read difference is for r/m32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tel 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expressed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base + index*scale + dis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T&amp;T 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expressed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(base, index,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  DWORD PTR [ebx+esi*4-0xe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  *-0xe8(%ebx,%esi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  eax, DWORD PTR [ebp+0x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  0x8(%ebp), %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    eax, [ebx-0xe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    -0xe8(%ebx), %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76F9-3190-43A0-9A0B-4B2546A3D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 vs AT&amp;T Synta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structions which can operate on different sizes, the mnemonic will have an indicator of the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b - operates on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/movw - operates on word (2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l - operates 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word) (4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does indicate size with things lik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 dword ptr [eax], but 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just not in the actual mnemonic of the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795F-3C5D-4F02-BBFB-5E07BBC7F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c - GNU project C and C++ compi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for many *nix systems (Linux/BSD/OSX/Sola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any other architectures besides x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/C++ options, some architecture-specific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option we care about is building debug symbols. Use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ggd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line arg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ally all of the VisualStudio options in the project properties page are just fancy wrappers around giving their compiler command line arguments. The equivalent on *nix is for to developers creat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fil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which are a configuration or configurations which describes which options will be used for compilation, how files will be linked together, etc. We w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get that complicated in this class, so we can just specify command line arguments man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8EEA-5670-4762-A6E0-1DF188DF8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3240" y="63961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ook p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c basic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o &lt;output filename&gt; &lt;input file nam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o hello hello.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-o and output filename are unspecified, default output filename i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o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or legacy reas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will be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ggdb -o &lt;filename&gt; &lt;filename&gt;.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ggdb -o Example1 Example1.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C615-4605-4AE9-9DCB-0B8679651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dump - display information from object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fil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an intermediate file created during compilation but before linking, or a fully linked exec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our purposes means any ELF file - the executable format standard for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thing we care about is -d to disassemble a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verride the output syntax with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 int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for getting an alternative perspective on what an instruction is doing, while learning AT&amp;T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3612-40A9-46B5-8160-168DA4723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3240" y="63961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ook p. 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dump -d h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lo:     file format elf32-i3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sembly of section .in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274 &lt;_init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4:       55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5:       89 e5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7:       53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b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8:       83 ec 04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    $0x4,%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b:       e8 00 00 00 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  8048280 &lt;_init+0x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374 &lt;main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4:       8d 4c 24 04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    0x4(%esp),%e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8:       83 e4 f0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   $0xfffffff0,%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b:       ff 71 fc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l  -0x4(%ec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e:       55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f:       89 e5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81:       51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84FA-22AE-4EE4-966D-5414C225A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16:28:55Z</dcterms:created>
  <dc:creator>yo mamma</dc:creator>
  <dc:description/>
  <dc:language>en-US</dc:language>
  <cp:lastModifiedBy>bla</cp:lastModifiedBy>
  <dcterms:modified xsi:type="dcterms:W3CDTF">2012-05-12T23:33:57Z</dcterms:modified>
  <cp:revision>55</cp:revision>
  <dc:subject/>
  <dc:title>PowerPoint Presentation</dc:title>
</cp:coreProperties>
</file>